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BE1-F85E-4B33-ACC7-6C3D672F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1BCD-AFCB-4E11-B5F5-93074C69F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63EA-94EF-4FF1-911C-A30E7D88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F01-D74A-4AF8-B8D6-80468E228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B2D7-595D-4A5D-8BC8-C5ADDDACD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05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18DC-DF2A-4AE3-8912-446C577BA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0F4-7C60-4D3B-9700-E3CD2BED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488-7F3C-4C75-9707-01EAA1E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E35-7C45-428B-9287-F0597083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8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308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8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308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8CB-FCAD-4F80-9E2B-2236FC67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6F0-DBB9-4BAD-80A7-00580A50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C0F-8113-4DD4-94F3-6CBDF09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761-4781-46E3-8781-7CE97A3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DEB-71BF-42DC-97D9-0811FC9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10666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EE7-7550-4A0E-87E8-45FEEEA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EB6-17F7-41EF-AA0C-E39ED63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1536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EE3-F6C3-471F-A063-836871A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A28-A178-4DAA-A02C-6F6F085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IABriefingTemplateMaster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DIA_logEnhanced"/>
          <p:cNvPicPr/>
          <p:nvPr/>
        </p:nvPicPr>
        <p:blipFill>
          <a:blip r:embed="rId3"/>
          <a:stretch/>
        </p:blipFill>
        <p:spPr>
          <a:xfrm>
            <a:off x="295200" y="111240"/>
            <a:ext cx="793800" cy="793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EBF0-8838-4F67-9C22-AD9A8E1DD4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72200" y="685800"/>
            <a:ext cx="2438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Underground Facility Analysis Cen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http://www.motherjones.com/files/images/Blog_DNI_Seal.jpg"/>
          <p:cNvPicPr/>
          <p:nvPr/>
        </p:nvPicPr>
        <p:blipFill>
          <a:blip r:embed="rId4"/>
          <a:stretch/>
        </p:blipFill>
        <p:spPr>
          <a:xfrm>
            <a:off x="8610480" y="6094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3FA-8C6C-47AB-81A5-346CB8E61B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just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380880" y="1058760"/>
            <a:ext cx="830592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 Black"/>
              </a:rPr>
              <a:t>Military Geo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 Black"/>
              </a:rPr>
              <a:t>Mr. Gunnar J. Radel, 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 Black"/>
              </a:rPr>
              <a:t>14 Jun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riefing is 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A_logEnhanced"/>
          <p:cNvPicPr/>
          <p:nvPr/>
        </p:nvPicPr>
        <p:blipFill>
          <a:blip r:embed="rId2"/>
          <a:stretch/>
        </p:blipFill>
        <p:spPr>
          <a:xfrm>
            <a:off x="3392640" y="1752480"/>
            <a:ext cx="2373120" cy="2373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6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Israel Gaza"/>
          <p:cNvPicPr/>
          <p:nvPr/>
        </p:nvPicPr>
        <p:blipFill>
          <a:blip r:embed="rId1"/>
          <a:stretch/>
        </p:blipFill>
        <p:spPr>
          <a:xfrm>
            <a:off x="277920" y="1523880"/>
            <a:ext cx="8588160" cy="4810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143000" y="53352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AA5-F95E-4259-90E1-3F87380446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sens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eophysical analyt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rugs tunnels"/>
          <p:cNvPicPr/>
          <p:nvPr/>
        </p:nvPicPr>
        <p:blipFill>
          <a:blip r:embed="rId1"/>
          <a:srcRect l="17501" t="0" r="27500" b="0"/>
          <a:stretch/>
        </p:blipFill>
        <p:spPr>
          <a:xfrm>
            <a:off x="5867280" y="1371600"/>
            <a:ext cx="2973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4A06-997A-454C-9500-48938DDA12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7692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space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and below), sea,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, locate, characte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ndestine tunne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low resolu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 resoluti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delity local interro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G_0254.JPG"/>
          <p:cNvPicPr/>
          <p:nvPr/>
        </p:nvPicPr>
        <p:blipFill>
          <a:blip r:embed="rId1"/>
          <a:stretch/>
        </p:blipFill>
        <p:spPr>
          <a:xfrm>
            <a:off x="5410080" y="1219320"/>
            <a:ext cx="3516480" cy="25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SpecGram1246251174"/>
          <p:cNvPicPr/>
          <p:nvPr/>
        </p:nvPicPr>
        <p:blipFill>
          <a:blip r:embed="rId2"/>
          <a:srcRect l="4967" t="0" r="3934" b="7269"/>
          <a:stretch/>
        </p:blipFill>
        <p:spPr>
          <a:xfrm>
            <a:off x="5370480" y="3733920"/>
            <a:ext cx="35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Sensing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ng in a non-lab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D does not typically build v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cessing on node prior to ex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and power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-offs (minimize reduction in sensitivity or 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obust and resilient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duction in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ensitivity locked until sensor is i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s that do not require frequent or lengthy calib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oaker h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cancellation versus is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sensor concepts for nois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GPS time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ookups"/>
          <p:cNvPicPr/>
          <p:nvPr/>
        </p:nvPicPr>
        <p:blipFill>
          <a:blip r:embed="rId1"/>
          <a:srcRect l="0" t="0" r="4316" b="20168"/>
          <a:stretch/>
        </p:blipFill>
        <p:spPr>
          <a:xfrm>
            <a:off x="6172200" y="1447920"/>
            <a:ext cx="2666880" cy="1668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Key Geophysical Analysis Need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5559480" y="3774960"/>
            <a:ext cx="3584520" cy="2854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334120" y="6137280"/>
            <a:ext cx="1676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irles, et. al: “Advancements In Subsurface Modeling Using Seismic Refraction Data”, SAGEEP 200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of seismic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out placing sensor over the top of the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infrasound and meteorolog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computation, interpretation of local &amp; regional syn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s most with mov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flow optimized analytic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sunamigenic source function and propagatio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domain data fusion (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ngle geophysical method is applicable everywh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ismic (active and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oustic, Infras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ic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penetrating 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atabase of future sensor deplo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download of .css 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us seed format download and un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otechnic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(clays, magnetite, sa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s, fractures, joints, bedding, paleo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wat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smic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http://geomaps.wr.usgs.gov/socal/geology/inland_empire/images/san_andreas_fault.jpg"/>
          <p:cNvPicPr/>
          <p:nvPr/>
        </p:nvPicPr>
        <p:blipFill>
          <a:blip r:embed="rId1"/>
          <a:srcRect l="17719" t="8253" r="7309" b="24303"/>
          <a:stretch/>
        </p:blipFill>
        <p:spPr>
          <a:xfrm>
            <a:off x="3962520" y="3448080"/>
            <a:ext cx="4876560" cy="284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nvironmental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ve 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ttp://daniellmiddle.typepad.com/.a/6a00d83453a09469e201156f88be5b970c-800wi"/>
          <p:cNvPicPr/>
          <p:nvPr/>
        </p:nvPicPr>
        <p:blipFill>
          <a:blip r:embed="rId1"/>
          <a:stretch/>
        </p:blipFill>
        <p:spPr>
          <a:xfrm>
            <a:off x="5638680" y="1752480"/>
            <a:ext cx="3245040" cy="457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Man-made Clutter Challenges &amp; Factor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Telephone,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, Sewer,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y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-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, F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www.massturnpike.com/img/big_dig/backgrd/utility01.jpeg"/>
          <p:cNvPicPr/>
          <p:nvPr/>
        </p:nvPicPr>
        <p:blipFill>
          <a:blip r:embed="rId1"/>
          <a:stretch/>
        </p:blipFill>
        <p:spPr>
          <a:xfrm>
            <a:off x="5424480" y="1828800"/>
            <a:ext cx="3452760" cy="4419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066680" y="6094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(Field Horror 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justpressplay.net/images/stories/them_giant_ant.jpg"/>
          <p:cNvPicPr/>
          <p:nvPr/>
        </p:nvPicPr>
        <p:blipFill>
          <a:blip r:embed="rId1"/>
          <a:stretch/>
        </p:blipFill>
        <p:spPr>
          <a:xfrm>
            <a:off x="6477120" y="1295280"/>
            <a:ext cx="2361960" cy="307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ft138nb0zm_00027.jpg image by damnedrodan"/>
          <p:cNvPicPr/>
          <p:nvPr/>
        </p:nvPicPr>
        <p:blipFill>
          <a:blip r:embed="rId2"/>
          <a:stretch/>
        </p:blipFill>
        <p:spPr>
          <a:xfrm>
            <a:off x="6477120" y="4572000"/>
            <a:ext cx="24001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0040" y="633888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59280" y="61920"/>
            <a:ext cx="33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NLASS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066680" y="1828800"/>
            <a:ext cx="51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ing dat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quantity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interference &amp; friendly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4:20:05Z</dcterms:created>
  <dc:creator>DAN2</dc:creator>
  <dc:description/>
  <dc:language>en-US</dc:language>
  <cp:lastModifiedBy>jtrichelson</cp:lastModifiedBy>
  <dcterms:modified xsi:type="dcterms:W3CDTF">2012-01-22T22:02:55Z</dcterms:modified>
  <cp:revision>70</cp:revision>
  <dc:subject/>
  <dc:title>PowerPoint Presentation</dc:title>
</cp:coreProperties>
</file>