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DF38-41C4-4947-8D40-93CB15D9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6EAF-0E4A-4D48-B789-B3FAD5313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769-6B99-4717-B0C9-52B58EB49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E692-387A-4EDA-B4ED-C6F98DE5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3915-9FF8-4DAF-90F0-40C9562C6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987-3263-4A52-80F7-BAEBAF05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4A0-E5B1-4BBC-90DC-963E2983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384-71E2-4EFE-B828-87C78363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859-1060-4E01-9AFA-EFAC7557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8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30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8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30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06B-328E-49F6-A01D-F8672152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5AD-D53F-4A34-81DD-5F2158DC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EAA-AEA9-457E-A129-35D16681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43C-7A41-4C98-9313-4DC6089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A63-CF2F-40C9-980F-1557FB89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9C3-B070-48A4-BDF5-4D512306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656-E2D4-41EC-9A08-6796A35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D2F-B3D7-4732-B5C2-1004CBB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CA8-EEA3-4562-AC36-A0F31FF9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IABriefingTemplate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IA_logEnhanced"/>
          <p:cNvPicPr/>
          <p:nvPr/>
        </p:nvPicPr>
        <p:blipFill>
          <a:blip r:embed="rId3"/>
          <a:stretch/>
        </p:blipFill>
        <p:spPr>
          <a:xfrm>
            <a:off x="295200" y="111240"/>
            <a:ext cx="793800" cy="793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665B-47B5-43FA-B0D0-C8A2249FAE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72200" y="685800"/>
            <a:ext cx="2438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Underground Facility Analysis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http://www.motherjones.com/files/images/Blog_DNI_Seal.jpg"/>
          <p:cNvPicPr/>
          <p:nvPr/>
        </p:nvPicPr>
        <p:blipFill>
          <a:blip r:embed="rId4"/>
          <a:stretch/>
        </p:blipFill>
        <p:spPr>
          <a:xfrm>
            <a:off x="8610480" y="6094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772-750A-4264-8380-CA1F5E4B54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just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80880" y="1058760"/>
            <a:ext cx="8305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Black"/>
              </a:rPr>
              <a:t>Military Geo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 Black"/>
              </a:rPr>
              <a:t>Mr. Gunnar J. Radel, 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 Black"/>
              </a:rPr>
              <a:t>14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is 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A_logEnhanced"/>
          <p:cNvPicPr/>
          <p:nvPr/>
        </p:nvPicPr>
        <p:blipFill>
          <a:blip r:embed="rId2"/>
          <a:stretch/>
        </p:blipFill>
        <p:spPr>
          <a:xfrm>
            <a:off x="3392640" y="1752480"/>
            <a:ext cx="2373120" cy="2373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srael Gaza"/>
          <p:cNvPicPr/>
          <p:nvPr/>
        </p:nvPicPr>
        <p:blipFill>
          <a:blip r:embed="rId1"/>
          <a:stretch/>
        </p:blipFill>
        <p:spPr>
          <a:xfrm>
            <a:off x="277920" y="1523880"/>
            <a:ext cx="8588160" cy="4810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143000" y="5335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DBD5-389F-4C71-B51F-827E835B1B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sens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analyt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rugs tunnels"/>
          <p:cNvPicPr/>
          <p:nvPr/>
        </p:nvPicPr>
        <p:blipFill>
          <a:blip r:embed="rId1"/>
          <a:srcRect l="17501" t="0" r="27500" b="0"/>
          <a:stretch/>
        </p:blipFill>
        <p:spPr>
          <a:xfrm>
            <a:off x="5867280" y="1371600"/>
            <a:ext cx="2973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77F5-600E-41A6-9C39-F88B8E6F6F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spac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and below), sea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, locate, characte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ndestine tunne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low resolu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resoluti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delity local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G_0254.JPG"/>
          <p:cNvPicPr/>
          <p:nvPr/>
        </p:nvPicPr>
        <p:blipFill>
          <a:blip r:embed="rId1"/>
          <a:stretch/>
        </p:blipFill>
        <p:spPr>
          <a:xfrm>
            <a:off x="5410080" y="1219320"/>
            <a:ext cx="351648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pecGram1246251174"/>
          <p:cNvPicPr/>
          <p:nvPr/>
        </p:nvPicPr>
        <p:blipFill>
          <a:blip r:embed="rId2"/>
          <a:srcRect l="4967" t="0" r="3934" b="7269"/>
          <a:stretch/>
        </p:blipFill>
        <p:spPr>
          <a:xfrm>
            <a:off x="537048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Sensing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in a non-lab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 does not typically build v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on node prior to ex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and power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-offs (minimize reduction in sensitivity or 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bust and resili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ction in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nsitivity locked until sensor i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s that do not require frequent or lengthy calib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aker h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ancellation versus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ensor concepts for 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PS tim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ookups"/>
          <p:cNvPicPr/>
          <p:nvPr/>
        </p:nvPicPr>
        <p:blipFill>
          <a:blip r:embed="rId1"/>
          <a:srcRect l="0" t="0" r="4316" b="20168"/>
          <a:stretch/>
        </p:blipFill>
        <p:spPr>
          <a:xfrm>
            <a:off x="6172200" y="1447920"/>
            <a:ext cx="2666880" cy="1668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Analysis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559480" y="3774960"/>
            <a:ext cx="3584520" cy="2854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334120" y="6137280"/>
            <a:ext cx="167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rles, et. al: “Advancements In Subsurface Modeling Using Seismic Refraction Data”, SAGEEP 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of seismic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placing sensor over the top of th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infrasound and meteorolog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computation, interpretation of local &amp; regional syn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s most with mov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optimized analyt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sunamigenic source function and propagatio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domain data fusion (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ngle geophysical method is applicable everyw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ismic (active and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ustic, Infra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penetrating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atabase of future sensor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download of .css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us seed format download and un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otechnic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(clays, magnetite, s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, fractures, joints, bedding, paleo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geomaps.wr.usgs.gov/socal/geology/inland_empire/images/san_andreas_fault.jpg"/>
          <p:cNvPicPr/>
          <p:nvPr/>
        </p:nvPicPr>
        <p:blipFill>
          <a:blip r:embed="rId1"/>
          <a:srcRect l="17719" t="8253" r="7309" b="24303"/>
          <a:stretch/>
        </p:blipFill>
        <p:spPr>
          <a:xfrm>
            <a:off x="3962520" y="3448080"/>
            <a:ext cx="4876560" cy="284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nvironment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v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daniellmiddle.typepad.com/.a/6a00d83453a09469e201156f88be5b970c-800wi"/>
          <p:cNvPicPr/>
          <p:nvPr/>
        </p:nvPicPr>
        <p:blipFill>
          <a:blip r:embed="rId1"/>
          <a:stretch/>
        </p:blipFill>
        <p:spPr>
          <a:xfrm>
            <a:off x="5638680" y="1752480"/>
            <a:ext cx="3245040" cy="457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Man-made Clutter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Telephone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, Sewer,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y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-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,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www.massturnpike.com/img/big_dig/backgrd/utility01.jpeg"/>
          <p:cNvPicPr/>
          <p:nvPr/>
        </p:nvPicPr>
        <p:blipFill>
          <a:blip r:embed="rId1"/>
          <a:stretch/>
        </p:blipFill>
        <p:spPr>
          <a:xfrm>
            <a:off x="5424480" y="1828800"/>
            <a:ext cx="345276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0666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(Field Horror 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justpressplay.net/images/stories/them_giant_ant.jpg"/>
          <p:cNvPicPr/>
          <p:nvPr/>
        </p:nvPicPr>
        <p:blipFill>
          <a:blip r:embed="rId1"/>
          <a:stretch/>
        </p:blipFill>
        <p:spPr>
          <a:xfrm>
            <a:off x="6477120" y="1295280"/>
            <a:ext cx="2361960" cy="307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ft138nb0zm_00027.jpg image by damnedrodan"/>
          <p:cNvPicPr/>
          <p:nvPr/>
        </p:nvPicPr>
        <p:blipFill>
          <a:blip r:embed="rId2"/>
          <a:stretch/>
        </p:blipFill>
        <p:spPr>
          <a:xfrm>
            <a:off x="6477120" y="4572000"/>
            <a:ext cx="24001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66680" y="1828800"/>
            <a:ext cx="51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dat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quantity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terference &amp;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20:05Z</dcterms:created>
  <dc:creator>DAN2</dc:creator>
  <dc:description/>
  <dc:language>en-US</dc:language>
  <cp:lastModifiedBy>jtrichelson</cp:lastModifiedBy>
  <dcterms:modified xsi:type="dcterms:W3CDTF">2012-01-22T22:02:55Z</dcterms:modified>
  <cp:revision>70</cp:revision>
  <dc:subject/>
  <dc:title>PowerPoint Presentation</dc:title>
</cp:coreProperties>
</file>