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AB720-11CB-4E25-A556-3EC0176CD0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F5742-7F4C-438F-83E3-A2171797DD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D5694-A0F1-4B71-8968-921008856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6C357-5CE1-4B87-A575-40AFB116AB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05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D14AE-9696-4E9C-9D4E-3A524ABA5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05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9917D-B86B-4405-9DB2-E631392EC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CB50-EC00-4975-94C6-2818CCC66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8EDD-7FC6-4B7F-A95D-60E033914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1536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1536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D4CC-B853-4A0C-B228-58819C385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88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1308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88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1308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3121-BC22-4292-A563-616FA82A0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D62C-B6EF-48CF-B404-527E7B6A9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76ED-B009-44D4-9E62-B5D28D949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1536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B760-CD22-454D-B1B2-3E89F788E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6C11-D680-4E1A-9BDD-36C54E197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1066680"/>
            <a:ext cx="7162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BDEA-BE43-40BD-9527-F96A85758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536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F065-708A-44C6-863B-AD9FC47D9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536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1536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5FD6-270F-4BA3-91B2-28F238D39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1536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3EAC-7342-4591-A7C4-FA7525DBE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DIABriefingTemplateMaster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DIA_logEnhanced"/>
          <p:cNvPicPr/>
          <p:nvPr/>
        </p:nvPicPr>
        <p:blipFill>
          <a:blip r:embed="rId3"/>
          <a:stretch/>
        </p:blipFill>
        <p:spPr>
          <a:xfrm>
            <a:off x="295200" y="111240"/>
            <a:ext cx="793800" cy="79380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808080">
                <a:alpha val="60000"/>
              </a:srgbClr>
            </a:outerShdw>
          </a:effectLst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0866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B6C65-C030-49F2-A2E3-837B4EEA0E4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6172200" y="685800"/>
            <a:ext cx="2438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08080"/>
                </a:solidFill>
                <a:latin typeface="Verdana"/>
              </a:rPr>
              <a:t>Underground Facility Analysis Cen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3" descr="http://www.motherjones.com/files/images/Blog_DNI_Seal.jpg"/>
          <p:cNvPicPr/>
          <p:nvPr/>
        </p:nvPicPr>
        <p:blipFill>
          <a:blip r:embed="rId4"/>
          <a:stretch/>
        </p:blipFill>
        <p:spPr>
          <a:xfrm>
            <a:off x="8610480" y="609480"/>
            <a:ext cx="457200" cy="454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70866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8FFAE-07E8-47C9-8942-991EFCCB858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4" descr="just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4"/>
          <p:cNvSpPr/>
          <p:nvPr/>
        </p:nvSpPr>
        <p:spPr>
          <a:xfrm>
            <a:off x="380880" y="1058760"/>
            <a:ext cx="8305920" cy="518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 Black"/>
              </a:rPr>
              <a:t>Military Geophys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80"/>
                </a:solidFill>
                <a:latin typeface="Arial Black"/>
              </a:rPr>
              <a:t>Mr. Gunnar J. Radel, P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 Black"/>
              </a:rPr>
              <a:t>14 June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 algn="ctr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briefing is class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UNCLASS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DIA_logEnhanced"/>
          <p:cNvPicPr/>
          <p:nvPr/>
        </p:nvPicPr>
        <p:blipFill>
          <a:blip r:embed="rId2"/>
          <a:stretch/>
        </p:blipFill>
        <p:spPr>
          <a:xfrm>
            <a:off x="3392640" y="1752480"/>
            <a:ext cx="2373120" cy="237348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808080">
                <a:alpha val="6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Israel Gaza"/>
          <p:cNvPicPr/>
          <p:nvPr/>
        </p:nvPicPr>
        <p:blipFill>
          <a:blip r:embed="rId1"/>
          <a:stretch/>
        </p:blipFill>
        <p:spPr>
          <a:xfrm>
            <a:off x="277920" y="1523880"/>
            <a:ext cx="8588160" cy="481032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"/>
          <p:cNvSpPr/>
          <p:nvPr/>
        </p:nvSpPr>
        <p:spPr>
          <a:xfrm>
            <a:off x="1143000" y="533520"/>
            <a:ext cx="4724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230040" y="633888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UNC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5759280" y="6192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UN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5"/>
          <p:cNvSpPr/>
          <p:nvPr/>
        </p:nvSpPr>
        <p:spPr>
          <a:xfrm>
            <a:off x="70866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FADCB-1F24-4AFD-9B23-AB9FB5D4509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12193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487692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geophysical sensing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geophysical analytic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230040" y="633888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UNC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5759280" y="6192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UN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drugs tunnels"/>
          <p:cNvPicPr/>
          <p:nvPr/>
        </p:nvPicPr>
        <p:blipFill>
          <a:blip r:embed="rId1"/>
          <a:srcRect l="17501" t="0" r="27500" b="0"/>
          <a:stretch/>
        </p:blipFill>
        <p:spPr>
          <a:xfrm>
            <a:off x="5867280" y="1371600"/>
            <a:ext cx="297360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5"/>
          <p:cNvSpPr/>
          <p:nvPr/>
        </p:nvSpPr>
        <p:spPr>
          <a:xfrm>
            <a:off x="70866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E77E6-60E0-402F-9F47-A3787EAFB95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Applications</a:t>
            </a: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876920" cy="45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y 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ttlespace awar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d (and below), sea, 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ct, locate, character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ndestine tunnel de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, low resolution de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rate resolution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fidelity local interro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230040" y="633888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UNC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5759280" y="6192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UN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1" descr="IMG_0254.JPG"/>
          <p:cNvPicPr/>
          <p:nvPr/>
        </p:nvPicPr>
        <p:blipFill>
          <a:blip r:embed="rId1"/>
          <a:stretch/>
        </p:blipFill>
        <p:spPr>
          <a:xfrm>
            <a:off x="5410080" y="1219320"/>
            <a:ext cx="3516480" cy="2576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SpecGram1246251174"/>
          <p:cNvPicPr/>
          <p:nvPr/>
        </p:nvPicPr>
        <p:blipFill>
          <a:blip r:embed="rId2"/>
          <a:srcRect l="4967" t="0" r="3934" b="7269"/>
          <a:stretch/>
        </p:blipFill>
        <p:spPr>
          <a:xfrm>
            <a:off x="5370480" y="3733920"/>
            <a:ext cx="35812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8380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Key Geophysical Sensing Needs</a:t>
            </a: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sing in a non-lab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D does not typically build va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sor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commun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-processing on node prior to exf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ze and power ma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de-offs (minimize reduction in sensitivity or bandwid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robust and resilient sen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reduction in sensi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sensitivity locked until sensor is in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sors that do not require frequent or lengthy calib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soaker h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ise cancellation versus iso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anced sensor concepts for noise re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on GPS time for 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hookups"/>
          <p:cNvPicPr/>
          <p:nvPr/>
        </p:nvPicPr>
        <p:blipFill>
          <a:blip r:embed="rId1"/>
          <a:srcRect l="0" t="0" r="4316" b="20168"/>
          <a:stretch/>
        </p:blipFill>
        <p:spPr>
          <a:xfrm>
            <a:off x="6172200" y="1447920"/>
            <a:ext cx="2666880" cy="16682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4"/>
          <p:cNvSpPr/>
          <p:nvPr/>
        </p:nvSpPr>
        <p:spPr>
          <a:xfrm>
            <a:off x="230040" y="633888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UNC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5759280" y="6192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UN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8380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Key Geophysical Analysis Needs</a:t>
            </a: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75" name="Picture 7" descr=""/>
          <p:cNvPicPr/>
          <p:nvPr/>
        </p:nvPicPr>
        <p:blipFill>
          <a:blip r:embed="rId1"/>
          <a:stretch/>
        </p:blipFill>
        <p:spPr>
          <a:xfrm>
            <a:off x="5559480" y="3774960"/>
            <a:ext cx="3584520" cy="2854440"/>
          </a:xfrm>
          <a:prstGeom prst="rect">
            <a:avLst/>
          </a:prstGeom>
          <a:ln w="0">
            <a:noFill/>
          </a:ln>
        </p:spPr>
      </p:pic>
      <p:sp>
        <p:nvSpPr>
          <p:cNvPr id="76" name="Text Box 8"/>
          <p:cNvSpPr/>
          <p:nvPr/>
        </p:nvSpPr>
        <p:spPr>
          <a:xfrm>
            <a:off x="5334120" y="6137280"/>
            <a:ext cx="16761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irles, et. al: “Advancements In Subsurface Modeling Using Seismic Refraction Data”, SAGEEP 2006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th of seismic 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out placing sensor over the top of the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d infrasound and meteorological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pid computation, interpretation of local &amp; regional synthe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lps most with moving networ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flow optimized analytical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tsunamigenic source function and propagation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oss-domain data fusion (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 single geophysical method is applicable everywhe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ismic (active and passi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oustic, Infras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ectromagnetic In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is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und penetrating rad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database of future sensor deploy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download of .css data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rsus seed format download and unp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230040" y="633888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UNC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5759280" y="6192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UN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Geotechnical Challenges &amp; Factors</a:t>
            </a: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rial (clays, magnetite, sal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ults, fractures, joints, bedding, paleocha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ndwater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ismic velo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http://geomaps.wr.usgs.gov/socal/geology/inland_empire/images/san_andreas_fault.jpg"/>
          <p:cNvPicPr/>
          <p:nvPr/>
        </p:nvPicPr>
        <p:blipFill>
          <a:blip r:embed="rId1"/>
          <a:srcRect l="17719" t="8253" r="7309" b="24303"/>
          <a:stretch/>
        </p:blipFill>
        <p:spPr>
          <a:xfrm>
            <a:off x="3962520" y="3448080"/>
            <a:ext cx="4876560" cy="28447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"/>
          <p:cNvSpPr/>
          <p:nvPr/>
        </p:nvSpPr>
        <p:spPr>
          <a:xfrm>
            <a:off x="230040" y="633888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UNC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5759280" y="6192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UN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Environmental Challenges &amp; Factors</a:t>
            </a: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getative c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ce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http://daniellmiddle.typepad.com/.a/6a00d83453a09469e201156f88be5b970c-800wi"/>
          <p:cNvPicPr/>
          <p:nvPr/>
        </p:nvPicPr>
        <p:blipFill>
          <a:blip r:embed="rId1"/>
          <a:stretch/>
        </p:blipFill>
        <p:spPr>
          <a:xfrm>
            <a:off x="5638680" y="1752480"/>
            <a:ext cx="3245040" cy="45799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4"/>
          <p:cNvSpPr/>
          <p:nvPr/>
        </p:nvSpPr>
        <p:spPr>
          <a:xfrm>
            <a:off x="230040" y="633888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UNC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5759280" y="6192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UN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Man-made Clutter Challenges &amp; Factors</a:t>
            </a: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rban cha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, Telephone, C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, Sewer, G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y cur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head - 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hi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ures, F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http://www.massturnpike.com/img/big_dig/backgrd/utility01.jpeg"/>
          <p:cNvPicPr/>
          <p:nvPr/>
        </p:nvPicPr>
        <p:blipFill>
          <a:blip r:embed="rId1"/>
          <a:stretch/>
        </p:blipFill>
        <p:spPr>
          <a:xfrm>
            <a:off x="5424480" y="1828800"/>
            <a:ext cx="3452760" cy="44197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4"/>
          <p:cNvSpPr/>
          <p:nvPr/>
        </p:nvSpPr>
        <p:spPr>
          <a:xfrm>
            <a:off x="230040" y="633888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UNC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5759280" y="6192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UN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3"/>
          <p:cNvSpPr/>
          <p:nvPr/>
        </p:nvSpPr>
        <p:spPr>
          <a:xfrm>
            <a:off x="1066680" y="60948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Lessons Lear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(Field Horror Stori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http://www.justpressplay.net/images/stories/them_giant_ant.jpg"/>
          <p:cNvPicPr/>
          <p:nvPr/>
        </p:nvPicPr>
        <p:blipFill>
          <a:blip r:embed="rId1"/>
          <a:stretch/>
        </p:blipFill>
        <p:spPr>
          <a:xfrm>
            <a:off x="6477120" y="1295280"/>
            <a:ext cx="2361960" cy="30704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" descr="ft138nb0zm_00027.jpg image by damnedrodan"/>
          <p:cNvPicPr/>
          <p:nvPr/>
        </p:nvPicPr>
        <p:blipFill>
          <a:blip r:embed="rId2"/>
          <a:stretch/>
        </p:blipFill>
        <p:spPr>
          <a:xfrm>
            <a:off x="6477120" y="4572000"/>
            <a:ext cx="2400120" cy="17874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230040" y="633888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UNC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5759280" y="6192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UN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1066680" y="1828800"/>
            <a:ext cx="5105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ing batt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ling data c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pment quantity and log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imal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f interference &amp; friendly f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3T14:20:05Z</dcterms:created>
  <dc:creator>DAN2</dc:creator>
  <dc:description/>
  <dc:language>en-US</dc:language>
  <cp:lastModifiedBy>jtrichelson</cp:lastModifiedBy>
  <dcterms:modified xsi:type="dcterms:W3CDTF">2012-01-22T22:02:55Z</dcterms:modified>
  <cp:revision>70</cp:revision>
  <dc:subject/>
  <dc:title>PowerPoint Presentation</dc:title>
</cp:coreProperties>
</file>