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887B-CB06-4A12-8CFB-11D223D10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3462-82C3-490B-A9E2-2E8C535EA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2F86-0A13-4D62-ABAD-3E3621288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B184-DA79-4FD8-8DED-A26AFDB62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27F5-6BEF-4534-B9A4-18C2204CE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C4B8-1200-432F-8957-D863D69A3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6E82-6EEC-44CC-B514-821AD98E8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E058-D135-4D39-A885-C1C64489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1536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1536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B432-EDD2-458C-8B92-C98C0F2DA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88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308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88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308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EDAE-9FA7-4770-A8BC-8AAAE03D3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59F8-1217-40C5-8D3A-E53D3510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4DFC-85D3-4372-BBC6-3B2F2E93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1536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98D2-A508-4FA4-AAC1-0585D942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840B-6574-40A6-9F32-E0F259ED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10666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E0E4-2979-484B-891A-C36FBA0E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E697-AF8E-4B57-92EA-9B3BEE87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1536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C281-A51A-481D-A969-EB71B2F7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1536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02C3-F18D-4EE3-BF94-DE3996AC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DIABriefingTemplateMaster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DIA_logEnhanced"/>
          <p:cNvPicPr/>
          <p:nvPr/>
        </p:nvPicPr>
        <p:blipFill>
          <a:blip r:embed="rId3"/>
          <a:stretch/>
        </p:blipFill>
        <p:spPr>
          <a:xfrm>
            <a:off x="295200" y="111240"/>
            <a:ext cx="793800" cy="7938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60000"/>
              </a:srgbClr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2F0D-39A9-4DA9-88C0-5060356E1B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6172200" y="685800"/>
            <a:ext cx="2438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Verdana"/>
              </a:rPr>
              <a:t>Underground Facility Analysis Ce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3" descr="http://www.motherjones.com/files/images/Blog_DNI_Seal.jpg"/>
          <p:cNvPicPr/>
          <p:nvPr/>
        </p:nvPicPr>
        <p:blipFill>
          <a:blip r:embed="rId4"/>
          <a:stretch/>
        </p:blipFill>
        <p:spPr>
          <a:xfrm>
            <a:off x="8610480" y="609480"/>
            <a:ext cx="457200" cy="45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C5BB-D9F8-44F1-B0B8-DA178DB446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4" descr="just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380880" y="1058760"/>
            <a:ext cx="8305920" cy="51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Black"/>
              </a:rPr>
              <a:t>Military Geo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Arial Black"/>
              </a:rPr>
              <a:t>Mr. Gunnar J. Radel, 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 Black"/>
              </a:rPr>
              <a:t>14 June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riefing is class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DIA_logEnhanced"/>
          <p:cNvPicPr/>
          <p:nvPr/>
        </p:nvPicPr>
        <p:blipFill>
          <a:blip r:embed="rId2"/>
          <a:stretch/>
        </p:blipFill>
        <p:spPr>
          <a:xfrm>
            <a:off x="3392640" y="1752480"/>
            <a:ext cx="2373120" cy="237348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6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Israel Gaza"/>
          <p:cNvPicPr/>
          <p:nvPr/>
        </p:nvPicPr>
        <p:blipFill>
          <a:blip r:embed="rId1"/>
          <a:stretch/>
        </p:blipFill>
        <p:spPr>
          <a:xfrm>
            <a:off x="277920" y="1523880"/>
            <a:ext cx="8588160" cy="48103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1143000" y="533520"/>
            <a:ext cx="4724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90FF-9B51-4E5A-AA2F-2B3A1AC8AE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87692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geophysical sensing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geophysical analytic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drugs tunnels"/>
          <p:cNvPicPr/>
          <p:nvPr/>
        </p:nvPicPr>
        <p:blipFill>
          <a:blip r:embed="rId1"/>
          <a:srcRect l="17501" t="0" r="27500" b="0"/>
          <a:stretch/>
        </p:blipFill>
        <p:spPr>
          <a:xfrm>
            <a:off x="5867280" y="1371600"/>
            <a:ext cx="29736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96E0-9846-476A-9BBD-C42367F4FC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Application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87692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y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tlespace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 (and below), sea, 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ct, locate, character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ndestine tunnel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, low resolution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rate resoluti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fidelity local interro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1" descr="IMG_0254.JPG"/>
          <p:cNvPicPr/>
          <p:nvPr/>
        </p:nvPicPr>
        <p:blipFill>
          <a:blip r:embed="rId1"/>
          <a:stretch/>
        </p:blipFill>
        <p:spPr>
          <a:xfrm>
            <a:off x="5410080" y="1219320"/>
            <a:ext cx="3516480" cy="2576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SpecGram1246251174"/>
          <p:cNvPicPr/>
          <p:nvPr/>
        </p:nvPicPr>
        <p:blipFill>
          <a:blip r:embed="rId2"/>
          <a:srcRect l="4967" t="0" r="3934" b="7269"/>
          <a:stretch/>
        </p:blipFill>
        <p:spPr>
          <a:xfrm>
            <a:off x="5370480" y="3733920"/>
            <a:ext cx="3581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8380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Key Geophysical Sensing Need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ing in a non-lab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D does not typically build va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o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processing on node prior to ex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and power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e-offs (minimize reduction in sensitivity or bandwid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robust and resilient sen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reduction in sen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sensitivity locked until sensor is in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sors that do not require frequent or lengthy calib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oaker h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ise cancellation versus is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ced sensor concepts for noise 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GPS time for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hookups"/>
          <p:cNvPicPr/>
          <p:nvPr/>
        </p:nvPicPr>
        <p:blipFill>
          <a:blip r:embed="rId1"/>
          <a:srcRect l="0" t="0" r="4316" b="20168"/>
          <a:stretch/>
        </p:blipFill>
        <p:spPr>
          <a:xfrm>
            <a:off x="6172200" y="1447920"/>
            <a:ext cx="2666880" cy="16682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Key Geophysical Analysis Need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5559480" y="3774960"/>
            <a:ext cx="3584520" cy="28544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5334120" y="6137280"/>
            <a:ext cx="16761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irles, et. al: “Advancements In Subsurface Modeling Using Seismic Refraction Data”, SAGEEP 2006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th of seismic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out placing sensor over the top of the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d infrasound and meteorologic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pid computation, interpretation of local &amp; regional synthe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ps most with moving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flow optimized analytic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tsunamigenic source function and propagation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-domain data fusion (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single geophysical method is applicable everywhe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ismic (active and passi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oustic, Infras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ctromagnetic In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is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 penetrating rad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database of future sensor deploy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download of .css data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sus seed format download and unp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Geotechnical Challenges &amp; Factor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 (clays, magnetite, sa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ults, fractures, joints, bedding, paleo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ndwat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ismic velo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http://geomaps.wr.usgs.gov/socal/geology/inland_empire/images/san_andreas_fault.jpg"/>
          <p:cNvPicPr/>
          <p:nvPr/>
        </p:nvPicPr>
        <p:blipFill>
          <a:blip r:embed="rId1"/>
          <a:srcRect l="17719" t="8253" r="7309" b="24303"/>
          <a:stretch/>
        </p:blipFill>
        <p:spPr>
          <a:xfrm>
            <a:off x="3962520" y="3448080"/>
            <a:ext cx="4876560" cy="28447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Environmental Challenges &amp; Factor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getative c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http://daniellmiddle.typepad.com/.a/6a00d83453a09469e201156f88be5b970c-800wi"/>
          <p:cNvPicPr/>
          <p:nvPr/>
        </p:nvPicPr>
        <p:blipFill>
          <a:blip r:embed="rId1"/>
          <a:stretch/>
        </p:blipFill>
        <p:spPr>
          <a:xfrm>
            <a:off x="5638680" y="1752480"/>
            <a:ext cx="3245040" cy="45799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Man-made Clutter Challenges &amp; Factor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ban cha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, Telephone, C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, Sewer,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y 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head -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h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s, F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http://www.massturnpike.com/img/big_dig/backgrd/utility01.jpeg"/>
          <p:cNvPicPr/>
          <p:nvPr/>
        </p:nvPicPr>
        <p:blipFill>
          <a:blip r:embed="rId1"/>
          <a:stretch/>
        </p:blipFill>
        <p:spPr>
          <a:xfrm>
            <a:off x="5424480" y="1828800"/>
            <a:ext cx="3452760" cy="4419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1066680" y="6094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Lessons L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(Field Horror Stor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http://www.justpressplay.net/images/stories/them_giant_ant.jpg"/>
          <p:cNvPicPr/>
          <p:nvPr/>
        </p:nvPicPr>
        <p:blipFill>
          <a:blip r:embed="rId1"/>
          <a:stretch/>
        </p:blipFill>
        <p:spPr>
          <a:xfrm>
            <a:off x="6477120" y="1295280"/>
            <a:ext cx="2361960" cy="3070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ft138nb0zm_00027.jpg image by damnedrodan"/>
          <p:cNvPicPr/>
          <p:nvPr/>
        </p:nvPicPr>
        <p:blipFill>
          <a:blip r:embed="rId2"/>
          <a:stretch/>
        </p:blipFill>
        <p:spPr>
          <a:xfrm>
            <a:off x="6477120" y="4572000"/>
            <a:ext cx="2400120" cy="17874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066680" y="1828800"/>
            <a:ext cx="510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bat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ing data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ment quantity and log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 interference &amp; friendly 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3T14:20:05Z</dcterms:created>
  <dc:creator>DAN2</dc:creator>
  <dc:description/>
  <dc:language>en-US</dc:language>
  <cp:lastModifiedBy>jtrichelson</cp:lastModifiedBy>
  <dcterms:modified xsi:type="dcterms:W3CDTF">2012-01-22T22:02:55Z</dcterms:modified>
  <cp:revision>70</cp:revision>
  <dc:subject/>
  <dc:title>PowerPoint Presentation</dc:title>
</cp:coreProperties>
</file>